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3701B-28EC-4BF6-9C34-11302CC6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63D4D-CB46-4E63-9378-21280EFA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CC98A-3808-476C-8F6B-2E0186D8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49FDE-3282-4004-9814-F7C3EA2FF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1670-4BA4-45EE-807E-8C9747E2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0FC5-0C64-4A46-9F74-70D7BE40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552A-DE1E-40C5-BE36-27928E92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2178-9EE7-4B25-A107-D710AD26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3083-A74D-4F53-8072-8975BB75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7975-E30D-4491-B982-665F0738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0C60-F0DF-4CFF-9AB7-185A3388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2C150-AE1E-4CD0-B123-EB0C89F7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168A-ABD6-415D-8BE2-F1240206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C428-C2C9-4219-A992-424D5804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8E6F-709A-41DA-A14E-CD8FD76A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8449-AA12-4DC2-96A1-BE2E15A3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4AC8-BA0D-4C11-A11E-25EBD3B64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FA5CD-38F8-4101-AE2E-4355B4B5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8D42B-0946-4588-99FD-AFD50084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E4207-D83F-4DAE-A313-727EBED2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5A72C-FE3C-4E89-9E42-57C5899E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B81A2-E7E8-4FBF-A2E6-81755D89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73C9F-47A8-4F0F-A8BA-3CBC24FA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8F74F-853A-4627-A591-C1B326D3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3D47-F1BB-43C2-BA39-FF36AEDC30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8FEA-AA66-40B5-A33F-DBDB2F1E5B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400" spc="-1" strike="noStrike">
                <a:solidFill>
                  <a:srgbClr val="e5e5ff"/>
                </a:solidFill>
                <a:latin typeface="Garamond"/>
              </a:rPr>
              <a:t>Mean Creek</a:t>
            </a:r>
            <a:br>
              <a:rPr sz="5400"/>
            </a:br>
            <a:r>
              <a:rPr b="1" lang="en-NZ" sz="2800" spc="-1" strike="noStrike">
                <a:solidFill>
                  <a:srgbClr val="e5e5ff"/>
                </a:solidFill>
                <a:latin typeface="Garamond"/>
              </a:rPr>
              <a:t>directed by Jacob Aaron Este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619280" y="6021000"/>
            <a:ext cx="6400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Looking closely at the fil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437832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Plo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Write plot summary that is </a:t>
            </a:r>
            <a:r>
              <a:rPr b="0" lang="en-NZ" sz="3200" spc="-1" strike="noStrike" u="sng">
                <a:solidFill>
                  <a:srgbClr val="ffffff"/>
                </a:solidFill>
                <a:uFillTx/>
                <a:latin typeface="Garamond"/>
              </a:rPr>
              <a:t>exactly 75 words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 long. Ensure you include coverage of all the key eve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24360" y="3078000"/>
            <a:ext cx="41878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Characters - descrip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ter viewing the film, choose five words you would use to describe George or Sam. Give a specific example and quote from the film to support each wor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…………………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.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…………………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.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…………………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.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…………………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.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…………………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.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Characters - relationshi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am and Rock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1) Describe the relationship that Sam and Rocky have. Find a quote/example that supports thi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2) Describe how their relationship changes after George’s death. </a:t>
            </a: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Find a quote/example that supports thi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3645000"/>
            <a:ext cx="42861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Them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llyin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enge and Consequenc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ing of age/loss of innoc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w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emes.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rite your own definition for each on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describe 2-3 events from the film (with quotes) that illustrate each theme. Try to discuss a range of visual and verbal techniqu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Character - them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Explain how the character helps to convey the following them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ullying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Revenge and consequences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oming of 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Try to give specific examples from the text to support your answ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Setting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re is the film se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is the film se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two physical settings (places). Describe them (with quotes/examples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380988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Important Ev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Describe what you believe to be the most important event in the film. Find </a:t>
            </a:r>
            <a:r>
              <a:rPr b="1" lang="en-NZ" sz="3200" spc="-1" strike="noStrike">
                <a:solidFill>
                  <a:srgbClr val="ffffff"/>
                </a:solidFill>
                <a:latin typeface="Garamond"/>
              </a:rPr>
              <a:t>two to three quotes/examples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 that refer to the ev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What does the event show the viewer abou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Each character involv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The themes in the fil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Beginning and E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Describe the sequence in Rocky and Sam’s room at the beginning of the fil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Describe the sequence in their room at the end of the fil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How has the lighting, music and actions changed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What does this reveal about how the character’s have changed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How do the changes link to the theme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9640" y="4869000"/>
            <a:ext cx="208620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03:32:15Z</dcterms:created>
  <dc:creator>Ministry of Education</dc:creator>
  <dc:description/>
  <dc:language>en-US</dc:language>
  <cp:lastModifiedBy>camos</cp:lastModifiedBy>
  <dcterms:modified xsi:type="dcterms:W3CDTF">2009-06-10T02:30:42Z</dcterms:modified>
  <cp:revision>7</cp:revision>
  <dc:subject/>
  <dc:title>Of Mice and Men by John Steinbeck</dc:title>
</cp:coreProperties>
</file>